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470-CED5-4A8D-87A4-E3213105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4D1-C5C3-4AEE-8CA4-93623BE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73C-0786-4365-9FB6-7DA99397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F58-F6B4-4A91-A5AB-2387799E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B0D-A7D0-44F1-8BB1-88652EF2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B64-EC65-41EB-93C6-9063EFC8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CC9-A208-48F9-AB24-BB7F128E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B30-9772-4F29-92BD-D53B166B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7B7-E1DE-44DB-ACAB-9B66D930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8E5-8929-426A-ADC8-28EED9A7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8B0-CA3E-48BA-ADAA-2EE5FCD8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301-37AF-4FB2-8831-3CECC60A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130FE-FB47-4A47-8599-6231DA574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2428920" y="1592280"/>
            <a:ext cx="42861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12T18:04:17Z</dcterms:created>
  <dc:creator>Wei Qian</dc:creator>
  <dc:description/>
  <dc:language>en-US</dc:language>
  <cp:lastModifiedBy>Alan McLean</cp:lastModifiedBy>
  <dcterms:modified xsi:type="dcterms:W3CDTF">2023-09-30T16:08:32Z</dcterms:modified>
  <cp:revision>3</cp:revision>
  <dc:subject/>
  <dc:title>PowerPoint Presentation</dc:title>
</cp:coreProperties>
</file>