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730-FB9A-4706-9494-489EB694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9EF-6754-4A9B-B963-73F8D0DD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3C9-66D1-445A-B670-67637D1F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BBE-293D-4347-A3CE-974BEC1B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1C1-D222-4BCA-B334-394D49CD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1FA-6A7E-4A63-BB6C-4CA672BD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C1A-C338-4002-A894-46DB00B8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B7C-590E-4E2D-88A9-DA658DA8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DA9-3691-49EE-8708-A602EEE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0BB-576A-434C-966E-31FA0860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285-2436-4A6E-BDFB-936E23F4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E4B-BFC8-418D-A3A6-7A52EEFA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8917E-BBD6-4172-AEC2-39242E5E5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2519280" y="1560600"/>
            <a:ext cx="42861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2T18:04:17Z</dcterms:created>
  <dc:creator>Wei Qian</dc:creator>
  <dc:description/>
  <dc:language>en-US</dc:language>
  <cp:lastModifiedBy>Alan McLean</cp:lastModifiedBy>
  <dcterms:modified xsi:type="dcterms:W3CDTF">2023-09-30T16:09:10Z</dcterms:modified>
  <cp:revision>3</cp:revision>
  <dc:subject/>
  <dc:title>PowerPoint Presentation</dc:title>
</cp:coreProperties>
</file>