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BD3-3863-4737-99D9-AF655B8F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9FF-F510-48DB-82D1-08E8444A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4E9-EABE-4357-A023-5DAA19E2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8E7-7702-4945-8CE4-591EB15A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29E-D06E-4269-AB43-3F8ADCD5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D3F-0DF7-489E-8786-C994DC90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34A-8A07-4992-8948-1500A353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949-499C-461D-B66F-21C29EA6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2BF-9890-4AFE-9018-B43088FD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EC9-26C9-4443-8862-52472B9E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F7F-1E25-4C8E-A046-FE735F02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1DD-D695-467E-A9F3-15D72D03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29747-138C-41A0-AF6A-04254E93E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2428920" y="1592280"/>
            <a:ext cx="42861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12T18:04:17Z</dcterms:created>
  <dc:creator>Wei Qian</dc:creator>
  <dc:description/>
  <dc:language>en-US</dc:language>
  <cp:lastModifiedBy>Alan McLean</cp:lastModifiedBy>
  <dcterms:modified xsi:type="dcterms:W3CDTF">2023-09-30T16:08:32Z</dcterms:modified>
  <cp:revision>3</cp:revision>
  <dc:subject/>
  <dc:title>PowerPoint Presentation</dc:title>
</cp:coreProperties>
</file>