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88C-07F2-4461-B28B-03020E8E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B7B-18C7-4F7A-9494-F8449E3A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081-DFFA-4B89-840C-FA86FD38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ECE-DEE4-43D4-995C-11E042C7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93F-5392-4D2B-BE5E-C81830C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D8F-C20B-44AC-8138-BA8AF56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ABC-867C-48F3-B4DE-6E3D062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6FA-9075-4A98-8809-9DDD80A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28A-DED8-4CCB-8645-123EE8A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A83-90AC-459D-BB9E-0391222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59B-589A-44A3-BE41-E8A028C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1F8-BA86-4F8A-86B6-8399DEE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BE67B-CA79-46D2-B090-B75ECB393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2428920" y="159228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8:32Z</dcterms:modified>
  <cp:revision>3</cp:revision>
  <dc:subject/>
  <dc:title>PowerPoint Presentation</dc:title>
</cp:coreProperties>
</file>