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DBC2-9463-4E7F-9B7F-C643DC666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48EF-AB4A-416B-AF86-3920E5E5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551C-F6D8-47D2-9EE0-106F943BE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9B5F-EFAE-4803-8E1B-7DCC00A3D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7A0B-DEC1-46E5-A345-B16B22CB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2E8C-169B-41F0-8D01-8DEB2F1A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0DA7-5C91-48E9-B6D0-8EB3B973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DED5-B218-4F3A-B241-6B585707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D5EC-6AA5-4ECF-B5C5-FF2F69AB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1EBB-6653-4346-9BC7-E160166D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74A8-B5B8-4694-9A94-AF4156B3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A453-4A8E-4321-B65B-BBDD7FD0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141B82-10A8-4BD5-B73A-EBC6847678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"/>
          <p:cNvPicPr/>
          <p:nvPr/>
        </p:nvPicPr>
        <p:blipFill>
          <a:blip r:embed="rId1"/>
          <a:stretch/>
        </p:blipFill>
        <p:spPr>
          <a:xfrm>
            <a:off x="2519280" y="1560600"/>
            <a:ext cx="428616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6-12T18:04:17Z</dcterms:created>
  <dc:creator>Wei Qian</dc:creator>
  <dc:description/>
  <dc:language>en-US</dc:language>
  <cp:lastModifiedBy>Alan McLean</cp:lastModifiedBy>
  <dcterms:modified xsi:type="dcterms:W3CDTF">2023-09-30T16:09:10Z</dcterms:modified>
  <cp:revision>3</cp:revision>
  <dc:subject/>
  <dc:title>PowerPoint Presentation</dc:title>
</cp:coreProperties>
</file>