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E6C-79D9-470F-AAAD-6F56F8A9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7BF-A2C4-45FD-9B7F-B4186991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857-B6CE-4EE5-9DAC-850BE60C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DA6-3CFB-4C0B-82EF-29D8B9A1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4A4-B007-4D26-8CAE-2EEF2B4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9F5-8EBF-4EBE-BF06-23DF2941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CD9-C32C-485E-8CE1-8D814C85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000-B5C5-4980-B8DF-253C9AAB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B0F-2E1E-4900-B63F-78F48285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B6F-DBA3-4DF1-AEB3-56866193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AEF-68F2-4D1C-ACCB-A9EEA7F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64D-5E06-4C6B-A81D-B761DF8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88EA0-E6E3-4397-B530-5F4DE5391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2519280" y="156060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9:10Z</dcterms:modified>
  <cp:revision>3</cp:revision>
  <dc:subject/>
  <dc:title>PowerPoint Presentation</dc:title>
</cp:coreProperties>
</file>